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93AB-F072-41AB-98F3-300BA283A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CD1B-4204-4B82-8843-22308AF7A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A93C-AFB4-4B85-A138-B1D20C94B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161B-F184-44FF-BF14-2AC66CEFD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8E0C-8CE3-47BB-B110-A9F9498F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AD79-347B-4FF8-B32D-358798BC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3130-5366-4CB7-A10C-9E1C37E0B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128F-DC27-47F9-AE86-944C2ABD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E128-791B-4986-89FD-B3ACCAD0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9057-CE1C-4907-BDD2-926AE949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3F49-A624-43BE-AF8E-8F1D7FBB0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5AA9-BA27-40DB-BDC0-2C20C87B9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BDD-94A7-4446-9D6E-2C3A31E7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76F-5AD6-42BB-A214-24E3F7B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F0A-7429-4F1A-8EF0-36DECCF9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4D3-9EDB-4F3B-896C-7807C3FC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54E0-2FBD-4B3B-A421-13B679B8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7525-F1D5-4CA5-99B0-50DA596C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EE8C-C022-41B2-B923-D84D4102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CD19-84E4-4A6B-9514-829084CB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34D3-1FC7-4D04-9BC2-DFC5C632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88D2-170E-407D-AD77-35030F21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1A3E-52A1-46E5-8DB0-4D2EE7D3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1A4-3737-4D1E-AA0B-D3476379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7670-B0CE-4262-BB03-0F62864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EF76-DEE4-4079-A68B-A8CF8362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A32F-54A1-4C60-B482-064B8342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BDAE-CB4B-43E0-99AC-56E885E4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085C-B789-4107-9C90-BAF9485A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AC3-FDB3-46C1-A58A-8CAFC34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C5C-78AF-4433-A222-B6B007DF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0CE-6723-41E9-9D34-5CA8F074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FCD-B775-47FF-BD5B-D59F2C70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C46-D155-4E71-BC55-653FD2A7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AD8-768A-4B2A-9C8C-C47CBFF7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DCA-6576-4E46-906A-8D66A346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ACB4-0402-4BCF-9AF5-1219002533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03C0-F295-46CE-9A88-F8A6D02DB3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ichi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Get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4: M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Use the mole conversions to translate moles of unknown to the desired qua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4: M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Use the mole conversions to translate moles of unknown to the desired qua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2819520" y="3276720"/>
                <a:ext cx="18288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= n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2824200" y="4106880"/>
                <a:ext cx="3424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40 mol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 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2844720" y="5181480"/>
                <a:ext cx="1955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= 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 g Cu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es Mass Get Involv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When determining quantities that react and form in a chemical reaction, it is important to remember this: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In a practical setting, like a laboratory a chemist measures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mass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volum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or some other quantity, never mol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There is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no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scale that measures m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hemists can measure </a:t>
            </a:r>
            <a:r>
              <a:rPr b="1" lang="en-CA" sz="2800" spc="-1" strike="noStrike">
                <a:solidFill>
                  <a:srgbClr val="6767ff"/>
                </a:solidFill>
                <a:latin typeface="Arial Narrow"/>
              </a:rPr>
              <a:t>mass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CA" sz="2800" spc="-1" strike="noStrike">
                <a:solidFill>
                  <a:srgbClr val="6767ff"/>
                </a:solidFill>
                <a:latin typeface="Arial Narrow"/>
              </a:rPr>
              <a:t>solution volum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CA" sz="2800" spc="-1" strike="noStrike">
                <a:solidFill>
                  <a:srgbClr val="6767ff"/>
                </a:solidFill>
                <a:latin typeface="Arial Narrow"/>
              </a:rPr>
              <a:t>gas volum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…and convert them to moles using unitary rates (mole convers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Sample Stoichiometry Questi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15.00 grams of Aluminum reacts with excess Copper (II) chloride, determine the </a:t>
            </a: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theoretical yield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 (in grams) of Copper solid that 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Each stoichiometry question is answered using a simple 4 step strategy.  The 4 steps never change, only the numbers and the equations wil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1: 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Write the balanced chemical reactio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1: 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Write the balanced chemical reaction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55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609480" y="403848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Al</a:t>
            </a:r>
            <a:r>
              <a:rPr b="1" lang="en-CA" sz="4000" spc="-1" strike="noStrike" baseline="-25000">
                <a:solidFill>
                  <a:srgbClr val="000000"/>
                </a:solidFill>
                <a:latin typeface="Arial Narrow"/>
              </a:rPr>
              <a:t>(s)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+ </a:t>
            </a:r>
            <a:r>
              <a:rPr b="1" lang="en-CA" sz="4000" spc="-1" strike="noStrike">
                <a:solidFill>
                  <a:srgbClr val="ff0000"/>
                </a:solidFill>
                <a:latin typeface="Arial Narrow"/>
              </a:rPr>
              <a:t>3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CuCl</a:t>
            </a:r>
            <a:r>
              <a:rPr b="1" lang="en-CA" sz="4000" spc="-1" strike="noStrike" baseline="-25000">
                <a:solidFill>
                  <a:srgbClr val="000000"/>
                </a:solidFill>
                <a:latin typeface="Arial Narrow"/>
              </a:rPr>
              <a:t>2(aq)</a:t>
            </a:r>
            <a:r>
              <a:rPr b="1" lang="en-CA" sz="4000" spc="-1" strike="noStrike">
                <a:solidFill>
                  <a:srgbClr val="000000"/>
                </a:solidFill>
                <a:latin typeface="Wingdings 3"/>
                <a:ea typeface="Wingdings 3"/>
              </a:rPr>
              <a:t>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4000" spc="-1" strike="noStrike">
                <a:solidFill>
                  <a:srgbClr val="ff0000"/>
                </a:solidFill>
                <a:latin typeface="Arial Narrow"/>
              </a:rPr>
              <a:t>3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Cu</a:t>
            </a:r>
            <a:r>
              <a:rPr b="1" lang="en-CA" sz="4000" spc="-1" strike="noStrike" baseline="-25000">
                <a:solidFill>
                  <a:srgbClr val="000000"/>
                </a:solidFill>
                <a:latin typeface="Arial Narrow"/>
              </a:rPr>
              <a:t>(s)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+ </a:t>
            </a:r>
            <a:r>
              <a:rPr b="1" lang="en-CA" sz="4000" spc="-1" strike="noStrike">
                <a:solidFill>
                  <a:srgbClr val="ff0000"/>
                </a:solidFill>
                <a:latin typeface="Arial Narrow"/>
              </a:rPr>
              <a:t>2</a:t>
            </a:r>
            <a:r>
              <a:rPr b="1" lang="en-CA" sz="4000" spc="-1" strike="noStrike">
                <a:solidFill>
                  <a:srgbClr val="000000"/>
                </a:solidFill>
                <a:latin typeface="Arial Narrow"/>
              </a:rPr>
              <a:t> AlCl</a:t>
            </a:r>
            <a:r>
              <a:rPr b="1" lang="en-CA" sz="4000" spc="-1" strike="noStrike" baseline="-25000">
                <a:solidFill>
                  <a:srgbClr val="000000"/>
                </a:solidFill>
                <a:latin typeface="Arial Narrow"/>
              </a:rPr>
              <a:t>3(aq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2: M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Determine the moles of the given substance, using the mole conver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2: M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Determine the moles of the given substance, using the mole conver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3352680" y="3124080"/>
                <a:ext cx="17528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= m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3352680" y="4191120"/>
                <a:ext cx="30862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= 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g Al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3352680" y="5410080"/>
                <a:ext cx="23637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60 mol Al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3: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Use a mole ratio to determine the moles of the unknow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oichiometry Solution Strateg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 Narrow"/>
              </a:rPr>
              <a:t>Step 3: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Use a mole ratio to determine the moles of the unknow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641680" y="3184560"/>
                <a:ext cx="29210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 Cu = mol Al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C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2666880" y="4191120"/>
                <a:ext cx="4114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 Cu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60 mol Al 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C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2743200" y="5410080"/>
                <a:ext cx="3200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 Cu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40 mol Cu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23:27:44Z</dcterms:created>
  <dc:creator>Paul Teetzel</dc:creator>
  <dc:description/>
  <dc:language>en-US</dc:language>
  <cp:lastModifiedBy>Caitlin</cp:lastModifiedBy>
  <dcterms:modified xsi:type="dcterms:W3CDTF">2012-04-15T23:19:27Z</dcterms:modified>
  <cp:revision>10</cp:revision>
  <dc:subject/>
  <dc:title>Chemistry 11</dc:title>
</cp:coreProperties>
</file>